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F820-1964-47C5-BCB4-9EAD42F989D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D20D-EB7C-4525-8CF2-A5EB0DFCD42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883A-8A42-4696-AB3F-F8D09EB2CCF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256E-73FE-49F9-B438-5FC95D93EBA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2B0C-023E-4626-965C-679E0D22F51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F79C-B4A5-4844-A904-AE65CDDD095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5E0DB-001E-4E34-9AE3-26933F22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967D4-D9CC-4B39-AB7C-6FABC2B3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40DB3-11A4-4489-8D38-553085F7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402CD-6849-451C-8AE0-09B69973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87CC6-5BF1-4106-8DA5-60526E94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42ECB-D3C5-4BDC-86F1-558EEB3F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FB3A3-1A92-4C21-9227-8EEFB332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60155-BBE5-482A-BFD2-58825B40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B84F2-ABAE-4B2D-BB49-F6950FBA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46738-B300-4BDD-95E7-BE6FB9ED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CCED4-252C-4900-AC12-C48EAC5B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36045-0A5C-4496-85D6-71CCDD34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65B177-EB56-4E9F-8971-CC2B86E1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8414FB-8DD1-4B56-8F43-9390E3C5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A28BD6-2C0D-496F-9E28-C8969F66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396C2F-0D53-4BF6-8F4F-C3430CD8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1FCE63-166D-4D44-977A-96C113E8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5CF8DC-234A-4A54-B743-BD344D4D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CAA9F3-CFF2-47D0-AA06-1EFF9DBD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B3EB32-1530-4533-829A-E2CA7395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F06FDF-9068-41A8-B12F-BB247EE9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94B5FB-E3CD-44F2-B6E3-486C9408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8465EC-8230-4155-B287-53F1F245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6351C8-EC7F-4B27-9A87-F1F05669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414F-731E-4D51-9CCA-215B891B70F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B88E-D24E-4D62-9F0C-65C9F6FA203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1500-C0EF-4E44-94C9-D7573DC0CA7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9C0E-ECF4-4B87-B084-E1807274D6B0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6CB3-453C-4DEF-ABDF-5703985E19F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72F9-7B82-4685-9CC1-712038B0C13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DD7E-8A80-4367-A08B-890A2AFBB4C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F385-6579-4709-AE6C-3C14DD0C1040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35E8-720E-4139-BBA0-15C14DF4268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0C16-C77D-400E-9B02-CFB3ACC38C8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HY강B"/>
                <a:ea typeface="HY강B"/>
              </a:rPr>
              <a:t>10</a:t>
            </a:r>
            <a:r>
              <a:rPr b="1" lang="ko-KR" sz="38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와 노인복지정책</a:t>
            </a:r>
            <a:endParaRPr b="0" lang="en-US" sz="38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17"/>
          <p:cNvGrpSpPr/>
          <p:nvPr/>
        </p:nvGrpSpPr>
        <p:grpSpPr>
          <a:xfrm>
            <a:off x="285840" y="208080"/>
            <a:ext cx="8858160" cy="6149880"/>
            <a:chOff x="285840" y="208080"/>
            <a:chExt cx="8858160" cy="6149880"/>
          </a:xfrm>
        </p:grpSpPr>
        <p:grpSp>
          <p:nvGrpSpPr>
            <p:cNvPr id="644" name="그룹 17"/>
            <p:cNvGrpSpPr/>
            <p:nvPr/>
          </p:nvGrpSpPr>
          <p:grpSpPr>
            <a:xfrm>
              <a:off x="285840" y="208080"/>
              <a:ext cx="8715600" cy="2143080"/>
              <a:chOff x="285840" y="208080"/>
              <a:chExt cx="8715600" cy="2143080"/>
            </a:xfrm>
          </p:grpSpPr>
          <p:sp>
            <p:nvSpPr>
              <p:cNvPr id="645" name="AutoShape 2"/>
              <p:cNvSpPr/>
              <p:nvPr/>
            </p:nvSpPr>
            <p:spPr>
              <a:xfrm>
                <a:off x="285840" y="518760"/>
                <a:ext cx="8715600" cy="1832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46" name="그룹 10"/>
              <p:cNvGrpSpPr/>
              <p:nvPr/>
            </p:nvGrpSpPr>
            <p:grpSpPr>
              <a:xfrm>
                <a:off x="285840" y="208080"/>
                <a:ext cx="8715600" cy="2135520"/>
                <a:chOff x="285840" y="208080"/>
                <a:chExt cx="8715600" cy="2135520"/>
              </a:xfrm>
            </p:grpSpPr>
            <p:sp>
              <p:nvSpPr>
                <p:cNvPr id="647" name="AutoShape 4"/>
                <p:cNvSpPr/>
                <p:nvPr/>
              </p:nvSpPr>
              <p:spPr>
                <a:xfrm>
                  <a:off x="357120" y="20808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3) 1960-197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48" name="Text Box 6"/>
                <p:cNvSpPr/>
                <p:nvPr/>
              </p:nvSpPr>
              <p:spPr>
                <a:xfrm>
                  <a:off x="285840" y="636480"/>
                  <a:ext cx="8715600" cy="170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6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활보호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1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무원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2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군인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보장에 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법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3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등 제정으로 사회보장 기틀을 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그러나 경제발전논리에 밀려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발전 못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문제가 사회적 관심을 얻게 되지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계보호수준에 그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효친사상 앙양을 강조하여 가족에 의한 노인부양 유도 노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9" name="그룹 18"/>
            <p:cNvGrpSpPr/>
            <p:nvPr/>
          </p:nvGrpSpPr>
          <p:grpSpPr>
            <a:xfrm>
              <a:off x="285840" y="2500200"/>
              <a:ext cx="8858160" cy="1587240"/>
              <a:chOff x="285840" y="2500200"/>
              <a:chExt cx="8858160" cy="1587240"/>
            </a:xfrm>
          </p:grpSpPr>
          <p:sp>
            <p:nvSpPr>
              <p:cNvPr id="650" name="AutoShape 2"/>
              <p:cNvSpPr/>
              <p:nvPr/>
            </p:nvSpPr>
            <p:spPr>
              <a:xfrm>
                <a:off x="285840" y="2810880"/>
                <a:ext cx="8715600" cy="127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51" name="그룹 10"/>
              <p:cNvGrpSpPr/>
              <p:nvPr/>
            </p:nvGrpSpPr>
            <p:grpSpPr>
              <a:xfrm>
                <a:off x="285840" y="2500200"/>
                <a:ext cx="8858160" cy="1536120"/>
                <a:chOff x="285840" y="2500200"/>
                <a:chExt cx="8858160" cy="1536120"/>
              </a:xfrm>
            </p:grpSpPr>
            <p:sp>
              <p:nvSpPr>
                <p:cNvPr id="652" name="AutoShape 4"/>
                <p:cNvSpPr/>
                <p:nvPr/>
              </p:nvSpPr>
              <p:spPr>
                <a:xfrm>
                  <a:off x="357120" y="250020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198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53" name="Text Box 6"/>
                <p:cNvSpPr/>
                <p:nvPr/>
              </p:nvSpPr>
              <p:spPr>
                <a:xfrm>
                  <a:off x="285840" y="2928960"/>
                  <a:ext cx="8858160" cy="110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제도 기반의 확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 제정과 개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의 한계와 가족부양을 강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우대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헌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능력은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건강진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공동작업장 운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4" name="AutoShape 2"/>
            <p:cNvSpPr/>
            <p:nvPr/>
          </p:nvSpPr>
          <p:spPr>
            <a:xfrm>
              <a:off x="285840" y="4500720"/>
              <a:ext cx="871560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5" name="그룹 10"/>
            <p:cNvGrpSpPr/>
            <p:nvPr/>
          </p:nvGrpSpPr>
          <p:grpSpPr>
            <a:xfrm>
              <a:off x="285840" y="4199040"/>
              <a:ext cx="8858160" cy="2143800"/>
              <a:chOff x="285840" y="4199040"/>
              <a:chExt cx="8858160" cy="2143800"/>
            </a:xfrm>
          </p:grpSpPr>
          <p:sp>
            <p:nvSpPr>
              <p:cNvPr id="656" name="AutoShape 4"/>
              <p:cNvSpPr/>
              <p:nvPr/>
            </p:nvSpPr>
            <p:spPr>
              <a:xfrm>
                <a:off x="357120" y="4199040"/>
                <a:ext cx="3816360" cy="360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199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7" name="Text Box 6"/>
              <p:cNvSpPr/>
              <p:nvPr/>
            </p:nvSpPr>
            <p:spPr>
              <a:xfrm>
                <a:off x="285840" y="4572000"/>
                <a:ext cx="885816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확대발전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료노인복지시설 개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업참여 허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3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사업확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전달체계 확대개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체제 완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 통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서비스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공급주체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방 강화를 추진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서비스와 괴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AutoShape 2"/>
          <p:cNvSpPr/>
          <p:nvPr/>
        </p:nvSpPr>
        <p:spPr>
          <a:xfrm>
            <a:off x="250920" y="3822840"/>
            <a:ext cx="8858160" cy="259236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59" name="그룹 6"/>
          <p:cNvGrpSpPr/>
          <p:nvPr/>
        </p:nvGrpSpPr>
        <p:grpSpPr>
          <a:xfrm>
            <a:off x="214200" y="189000"/>
            <a:ext cx="8929800" cy="3058200"/>
            <a:chOff x="214200" y="189000"/>
            <a:chExt cx="8929800" cy="3058200"/>
          </a:xfrm>
        </p:grpSpPr>
        <p:sp>
          <p:nvSpPr>
            <p:cNvPr id="660" name="AutoShape 2"/>
            <p:cNvSpPr/>
            <p:nvPr/>
          </p:nvSpPr>
          <p:spPr>
            <a:xfrm>
              <a:off x="214200" y="740160"/>
              <a:ext cx="8858520" cy="2424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1" name="그룹 10"/>
            <p:cNvGrpSpPr/>
            <p:nvPr/>
          </p:nvGrpSpPr>
          <p:grpSpPr>
            <a:xfrm>
              <a:off x="285480" y="189000"/>
              <a:ext cx="8858520" cy="3058200"/>
              <a:chOff x="285480" y="189000"/>
              <a:chExt cx="8858520" cy="3058200"/>
            </a:xfrm>
          </p:grpSpPr>
          <p:sp>
            <p:nvSpPr>
              <p:cNvPr id="662" name="AutoShape 4"/>
              <p:cNvSpPr/>
              <p:nvPr/>
            </p:nvSpPr>
            <p:spPr>
              <a:xfrm>
                <a:off x="356760" y="189000"/>
                <a:ext cx="3816360" cy="519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6) 2000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3" name="Text Box 6"/>
              <p:cNvSpPr/>
              <p:nvPr/>
            </p:nvSpPr>
            <p:spPr>
              <a:xfrm>
                <a:off x="285480" y="908640"/>
                <a:ext cx="8858520" cy="233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제도의 변혁과 발전이 동시에 이루어진 시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규 정책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노인 식사배달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니어클럽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검진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안수술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전문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 전담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제도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률 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법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양한 신규 급여와서비스가 시행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의 시행은 노인복지제도의 획기적 변화 유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664" name="AutoShape 4"/>
          <p:cNvSpPr/>
          <p:nvPr/>
        </p:nvSpPr>
        <p:spPr>
          <a:xfrm>
            <a:off x="395280" y="3306600"/>
            <a:ext cx="3816360" cy="409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7) 2010</a:t>
            </a:r>
            <a:r>
              <a:rPr b="1" lang="ko-KR" sz="2800" spc="-1" strike="noStrike">
                <a:solidFill>
                  <a:srgbClr val="ffffff"/>
                </a:solidFill>
                <a:latin typeface="HY강B"/>
              </a:rPr>
              <a:t>년대</a:t>
            </a: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322200" y="3860640"/>
            <a:ext cx="885816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0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지제도의 변혁과 발전의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새로운 노인문제와 복지실천에 대한 관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법률 제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: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자살예방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관리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기초연금법 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중장기발전계획 시행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재정 및 전달체계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방정부의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자적 노인복지정책 추진 등이 이루어지고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국가책임제 시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 인권보호 조치 강화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거노인 자살 및 고독사 예방 개입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생산적이고 활기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화의 촉진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역돌봄체계의 구축 등을 위한 정책 강화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향후 재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인력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시설 등의 확충과 서비스의 양과 질 제고 노력 필요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그룹 8"/>
          <p:cNvGrpSpPr/>
          <p:nvPr/>
        </p:nvGrpSpPr>
        <p:grpSpPr>
          <a:xfrm>
            <a:off x="0" y="0"/>
            <a:ext cx="9358200" cy="6638760"/>
            <a:chOff x="0" y="0"/>
            <a:chExt cx="9358200" cy="6638760"/>
          </a:xfrm>
        </p:grpSpPr>
        <p:pic>
          <p:nvPicPr>
            <p:cNvPr id="667" name="Picture 2" descr="C:\DOCUME~1\USER\LOCALS~1\Temp\UNI00000f5434d5.gif"/>
            <p:cNvPicPr/>
            <p:nvPr/>
          </p:nvPicPr>
          <p:blipFill>
            <a:blip r:embed="rId1"/>
            <a:stretch/>
          </p:blipFill>
          <p:spPr>
            <a:xfrm>
              <a:off x="571320" y="5286240"/>
              <a:ext cx="3071880" cy="13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그림 3" descr="title.jp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정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2"/>
            <p:cNvSpPr/>
            <p:nvPr/>
          </p:nvSpPr>
          <p:spPr>
            <a:xfrm>
              <a:off x="428400" y="2244600"/>
              <a:ext cx="8429760" cy="304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AutoShape 4"/>
            <p:cNvSpPr/>
            <p:nvPr/>
          </p:nvSpPr>
          <p:spPr>
            <a:xfrm>
              <a:off x="500040" y="102996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복지정책의 기본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Text Box 6"/>
            <p:cNvSpPr/>
            <p:nvPr/>
          </p:nvSpPr>
          <p:spPr>
            <a:xfrm>
              <a:off x="500040" y="2315880"/>
              <a:ext cx="8501040" cy="30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개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정 목적 달성을 위한 국가나 기관이 선택한 행동원칙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특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결정의 주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가와 공공단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의 목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의 선 또는 국민의 복지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치적 과정을 거쳐 내려진 공적 결정으로 강제성을 지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을 위한 대안 중 적절하고 효율적 대안에 대한 선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욕구 충족과 문제해결을 위한 정부나 공공기관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원칙과 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직사각형 11"/>
            <p:cNvSpPr/>
            <p:nvPr/>
          </p:nvSpPr>
          <p:spPr>
            <a:xfrm>
              <a:off x="428400" y="1761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정책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그룹 4"/>
          <p:cNvGrpSpPr/>
          <p:nvPr/>
        </p:nvGrpSpPr>
        <p:grpSpPr>
          <a:xfrm>
            <a:off x="285840" y="146160"/>
            <a:ext cx="8572320" cy="6144120"/>
            <a:chOff x="285840" y="146160"/>
            <a:chExt cx="8572320" cy="6144120"/>
          </a:xfrm>
        </p:grpSpPr>
        <p:sp>
          <p:nvSpPr>
            <p:cNvPr id="675" name="AutoShape 2"/>
            <p:cNvSpPr/>
            <p:nvPr/>
          </p:nvSpPr>
          <p:spPr>
            <a:xfrm>
              <a:off x="285840" y="554040"/>
              <a:ext cx="8572320" cy="5732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Text Box 6"/>
            <p:cNvSpPr/>
            <p:nvPr/>
          </p:nvSpPr>
          <p:spPr>
            <a:xfrm>
              <a:off x="500040" y="571320"/>
              <a:ext cx="8358120" cy="57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의 구성요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의 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수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주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기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/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대상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결과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의 삶의 변화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은 노인욕구충족과 문제해결의 합리적 대안이지만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조정과 타협의 산물이며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한된 자원으로 인하여 정책형성과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변형될 수 있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-3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의제 선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다양한 욕구와 문제 중에서 정책에서 다루어야 할 몇 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문제를 선택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대안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문제 해결에 활용 가능한 정책대안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바람직한 대안을 선별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안간의 장단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비용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과 비교분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결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 달성을 위해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 이상의 대안 중에서 하나의 대안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선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때 사회적 자원과 정치적 구조라는 제약요인 때문에 결정된 대안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합리적인 대안’이 아니라 ‘가장 적절한 대안’이 될 수밖에 없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집행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프로그램이나 서비스를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필요한 자원의 동원과 조직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등을 통하여 정책을 보다 구체화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를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평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달성의 효과성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율성에 대한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형성과정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평가에 근거한 정책 확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수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변경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종결 여부의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직사각형 3"/>
            <p:cNvSpPr/>
            <p:nvPr/>
          </p:nvSpPr>
          <p:spPr>
            <a:xfrm>
              <a:off x="428400" y="1461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   </a:t>
              </a: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노인복지정책의 구성요소와 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그룹 4"/>
          <p:cNvGrpSpPr/>
          <p:nvPr/>
        </p:nvGrpSpPr>
        <p:grpSpPr>
          <a:xfrm>
            <a:off x="285840" y="119160"/>
            <a:ext cx="8715240" cy="6167520"/>
            <a:chOff x="285840" y="119160"/>
            <a:chExt cx="8715240" cy="6167520"/>
          </a:xfrm>
        </p:grpSpPr>
        <p:sp>
          <p:nvSpPr>
            <p:cNvPr id="679" name="AutoShape 2"/>
            <p:cNvSpPr/>
            <p:nvPr/>
          </p:nvSpPr>
          <p:spPr>
            <a:xfrm>
              <a:off x="285840" y="554040"/>
              <a:ext cx="8715240" cy="5732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Text Box 6"/>
            <p:cNvSpPr/>
            <p:nvPr/>
          </p:nvSpPr>
          <p:spPr>
            <a:xfrm>
              <a:off x="428400" y="714240"/>
              <a:ext cx="8358120" cy="55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칙인 정책이 정책대상에게 전달되기 위해서는 정책집행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프로그램이나 서비스로 변형되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때 ‘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’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지 영역에서 가치선택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allocation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누구에게 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수급 자격을 줄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수급 자격요건을 결정하기 위해서는 노인욕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기여와 손상에 대한 보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가판단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산상태를 고려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또한 평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효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효과 중 어떤 가치를 중시할 것인지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결정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benefit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서비스나 급여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권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물 중에서 급여형태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의 선택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통제목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적정 수준의 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동일급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력에 따른 급여와 관   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련된 가치결정을 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delivery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방법으로 서비스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앙집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방분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나 서비스 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제공장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자의 전문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달체계간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협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과 민간의 역할분담 고려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finance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에 필요한 자원을 어떻게 마련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 부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모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세 등의 자원마련방안 중에서 하나 또는 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의 방법 동시 활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직사각형 3"/>
            <p:cNvSpPr/>
            <p:nvPr/>
          </p:nvSpPr>
          <p:spPr>
            <a:xfrm>
              <a:off x="285840" y="11916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노인복지정책의 선택차원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그룹 8"/>
          <p:cNvGrpSpPr/>
          <p:nvPr/>
        </p:nvGrpSpPr>
        <p:grpSpPr>
          <a:xfrm>
            <a:off x="285840" y="71280"/>
            <a:ext cx="8643960" cy="5889960"/>
            <a:chOff x="285840" y="71280"/>
            <a:chExt cx="8643960" cy="5889960"/>
          </a:xfrm>
        </p:grpSpPr>
        <p:grpSp>
          <p:nvGrpSpPr>
            <p:cNvPr id="683" name="그룹 22"/>
            <p:cNvGrpSpPr/>
            <p:nvPr/>
          </p:nvGrpSpPr>
          <p:grpSpPr>
            <a:xfrm>
              <a:off x="285840" y="785520"/>
              <a:ext cx="8643960" cy="5175720"/>
              <a:chOff x="285840" y="785520"/>
              <a:chExt cx="8643960" cy="517572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285840" y="785520"/>
                <a:ext cx="8643960" cy="5175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357120" y="1039680"/>
                <a:ext cx="8572680" cy="40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정책의 접근방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인구중심 접근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중심 접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중심접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 → 소득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질병 → 건강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독과 소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위 → 고용보장과 사회적 서비스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11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 참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초반까지 노인복지사업이 빠르게 확충되었으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대상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저서비스의 속성을 지니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계획 수립 및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소득보장체계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보호받는 노후생활    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준비와 사회참여 기반 조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생활환경 조성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정적 노후소득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수명 연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극적 노년의 삶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전하고 편리한 생활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브릿지 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2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산적이고 활기찬 고령사회를 위한 노후소득보장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활기차고 안전한 노후실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고령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외국인력 활용 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경제로의 도약 추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86" name="AutoShape 4"/>
            <p:cNvSpPr/>
            <p:nvPr/>
          </p:nvSpPr>
          <p:spPr>
            <a:xfrm>
              <a:off x="357120" y="71280"/>
              <a:ext cx="5400720" cy="642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개요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8"/>
          <p:cNvGrpSpPr/>
          <p:nvPr/>
        </p:nvGrpSpPr>
        <p:grpSpPr>
          <a:xfrm>
            <a:off x="285840" y="71280"/>
            <a:ext cx="8786880" cy="6542280"/>
            <a:chOff x="285840" y="71280"/>
            <a:chExt cx="8786880" cy="6542280"/>
          </a:xfrm>
        </p:grpSpPr>
        <p:grpSp>
          <p:nvGrpSpPr>
            <p:cNvPr id="688" name="그룹 12"/>
            <p:cNvGrpSpPr/>
            <p:nvPr/>
          </p:nvGrpSpPr>
          <p:grpSpPr>
            <a:xfrm>
              <a:off x="1500120" y="5715000"/>
              <a:ext cx="7572600" cy="898560"/>
              <a:chOff x="1500120" y="5715000"/>
              <a:chExt cx="7572600" cy="898560"/>
            </a:xfrm>
          </p:grpSpPr>
          <p:pic>
            <p:nvPicPr>
              <p:cNvPr id="6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1500120" y="571500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Rectangle 4"/>
              <p:cNvSpPr/>
              <p:nvPr/>
            </p:nvSpPr>
            <p:spPr>
              <a:xfrm>
                <a:off x="2357280" y="589896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현행 노인복지정책과 서비스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1" name="그룹 22"/>
            <p:cNvGrpSpPr/>
            <p:nvPr/>
          </p:nvGrpSpPr>
          <p:grpSpPr>
            <a:xfrm>
              <a:off x="285840" y="785520"/>
              <a:ext cx="8644320" cy="4929480"/>
              <a:chOff x="285840" y="785520"/>
              <a:chExt cx="8644320" cy="4929480"/>
            </a:xfrm>
          </p:grpSpPr>
          <p:sp>
            <p:nvSpPr>
              <p:cNvPr id="692" name="AutoShape 2"/>
              <p:cNvSpPr/>
              <p:nvPr/>
            </p:nvSpPr>
            <p:spPr>
              <a:xfrm>
                <a:off x="285840" y="785520"/>
                <a:ext cx="8644320" cy="4929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3" name="Text Box 6"/>
              <p:cNvSpPr/>
              <p:nvPr/>
            </p:nvSpPr>
            <p:spPr>
              <a:xfrm>
                <a:off x="357120" y="1054800"/>
                <a:ext cx="8573040" cy="329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재인 정부의 저출산고령사회 기본계획 수정계획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019. 2.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목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함께 만들어가는 행복한 노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방향과 과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79-380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다층적 노후소득 보장체계 내실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중년 새로운 인생출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의 다양한 사회참여 기회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 중심의 건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돌봄 환경 조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성숙한 노년기를 위한 기반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4" name="AutoShape 4"/>
            <p:cNvSpPr/>
            <p:nvPr/>
          </p:nvSpPr>
          <p:spPr>
            <a:xfrm>
              <a:off x="357120" y="71280"/>
              <a:ext cx="5400720" cy="642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개요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원칙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 구성체계와 노인복지제도의 발달과정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복지정책의 개념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구성요소 등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기본방향과 특성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400" spc="-1" strike="noStrike">
                <a:solidFill>
                  <a:srgbClr val="ffffff"/>
                </a:solidFill>
                <a:latin typeface="HY강B"/>
                <a:ea typeface="HY강B"/>
              </a:rPr>
              <a:t>10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와 노인복지정책</a:t>
            </a:r>
            <a:endParaRPr b="0" lang="en-US" sz="3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0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585" name="AutoShape 2"/>
            <p:cNvSpPr/>
            <p:nvPr/>
          </p:nvSpPr>
          <p:spPr>
            <a:xfrm>
              <a:off x="180720" y="128592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의 의의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0"/>
            <p:cNvGrpSpPr/>
            <p:nvPr/>
          </p:nvGrpSpPr>
          <p:grpSpPr>
            <a:xfrm>
              <a:off x="214200" y="853920"/>
              <a:ext cx="8572680" cy="1788120"/>
              <a:chOff x="214200" y="853920"/>
              <a:chExt cx="8572680" cy="1788120"/>
            </a:xfrm>
          </p:grpSpPr>
          <p:sp>
            <p:nvSpPr>
              <p:cNvPr id="589" name="AutoShape 29"/>
              <p:cNvSpPr/>
              <p:nvPr/>
            </p:nvSpPr>
            <p:spPr>
              <a:xfrm>
                <a:off x="214200" y="85392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복지의 확대 필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Text Box 25"/>
              <p:cNvSpPr/>
              <p:nvPr/>
            </p:nvSpPr>
            <p:spPr>
              <a:xfrm>
                <a:off x="356760" y="1282320"/>
                <a:ext cx="82155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미충족 욕구 및 문제의 다양화와 심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노인부양 및 복지기능 약화와 생산인구의 부양부담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삶에 부적절한 사회적 조건의 확산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증진을 위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책임 주체인 국가의 적극적 개입 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1" name="AutoShape 2"/>
            <p:cNvSpPr/>
            <p:nvPr/>
          </p:nvSpPr>
          <p:spPr>
            <a:xfrm>
              <a:off x="180720" y="3143160"/>
              <a:ext cx="88203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2" name="Text Box 25"/>
            <p:cNvSpPr/>
            <p:nvPr/>
          </p:nvSpPr>
          <p:spPr>
            <a:xfrm>
              <a:off x="290520" y="3286080"/>
              <a:ext cx="8853480" cy="32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모든 노인들이 최저수준 이상의 생활을 유지하고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 충족과 생활상의 문제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방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후생활에 대한 적응과 사회통합을 이루는데 필요한 급여와 서비스를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하는 공공과 민간부문의 조직적이고 전문적인 제반 활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별적 복지─보편적 복지 중 선택에 따라 결정됨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    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의존성 노인에 한정되기 보다는 전체 노인이 대상이 되는 것이 일반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체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과 가족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장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market)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저 수준 이상의 생활 유지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충족과 생활문제의 예방과 해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응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합의 성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수단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 또는 현물 급여와 비물질적 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의 방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거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미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3" name="AutoShape 4"/>
            <p:cNvSpPr/>
            <p:nvPr/>
          </p:nvSpPr>
          <p:spPr>
            <a:xfrm>
              <a:off x="357120" y="2786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그룹 9"/>
          <p:cNvGrpSpPr/>
          <p:nvPr/>
        </p:nvGrpSpPr>
        <p:grpSpPr>
          <a:xfrm>
            <a:off x="285840" y="71280"/>
            <a:ext cx="8712000" cy="6357960"/>
            <a:chOff x="285840" y="71280"/>
            <a:chExt cx="8712000" cy="6357960"/>
          </a:xfrm>
        </p:grpSpPr>
        <p:grpSp>
          <p:nvGrpSpPr>
            <p:cNvPr id="595" name="그룹 17"/>
            <p:cNvGrpSpPr/>
            <p:nvPr/>
          </p:nvGrpSpPr>
          <p:grpSpPr>
            <a:xfrm>
              <a:off x="285840" y="71280"/>
              <a:ext cx="8643960" cy="4500720"/>
              <a:chOff x="285840" y="71280"/>
              <a:chExt cx="8643960" cy="4500720"/>
            </a:xfrm>
          </p:grpSpPr>
          <p:sp>
            <p:nvSpPr>
              <p:cNvPr id="596" name="AutoShape 2"/>
              <p:cNvSpPr/>
              <p:nvPr/>
            </p:nvSpPr>
            <p:spPr>
              <a:xfrm>
                <a:off x="285840" y="499680"/>
                <a:ext cx="8606160" cy="407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7120" y="644400"/>
                <a:ext cx="8572680" cy="38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이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헌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안정된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실현욕구의 충족과 사회통합의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편안하고 안락한 상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삶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 욕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족과 건강하고 문화적인 삶의 영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실현의 욕구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통합의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적 최저 또는 최적 수준 이상의 경제생활보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기실현의 욕구충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인 생리적 욕구 충족과 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심리사회적 욕구 충족을 전제로 노년기의 발달과업성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적응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욕구 충족을 위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통합의 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를 완화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류사회의 성원으로서의 지위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 부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활동에의 적극적 참여와 사회발전에 기여할 수 있는 기회의 부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AutoShape 4"/>
              <p:cNvSpPr/>
              <p:nvPr/>
            </p:nvSpPr>
            <p:spPr>
              <a:xfrm>
                <a:off x="357120" y="71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9" name="그룹 18"/>
            <p:cNvGrpSpPr/>
            <p:nvPr/>
          </p:nvGrpSpPr>
          <p:grpSpPr>
            <a:xfrm>
              <a:off x="285840" y="4643280"/>
              <a:ext cx="8712000" cy="1785960"/>
              <a:chOff x="285840" y="4643280"/>
              <a:chExt cx="8712000" cy="1785960"/>
            </a:xfrm>
          </p:grpSpPr>
          <p:sp>
            <p:nvSpPr>
              <p:cNvPr id="600" name="AutoShape 2"/>
              <p:cNvSpPr/>
              <p:nvPr/>
            </p:nvSpPr>
            <p:spPr>
              <a:xfrm>
                <a:off x="285840" y="5071680"/>
                <a:ext cx="8606520" cy="1357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1" name="Text Box 25"/>
              <p:cNvSpPr/>
              <p:nvPr/>
            </p:nvSpPr>
            <p:spPr>
              <a:xfrm>
                <a:off x="357120" y="5143320"/>
                <a:ext cx="8640720" cy="12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의 기본 가치를 반영하여야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을 위한 유엔원칙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991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시된 독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실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이라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원칙을 따라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51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드리드 고령화국제행동계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02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과 안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량강화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2" name="AutoShape 4"/>
              <p:cNvSpPr/>
              <p:nvPr/>
            </p:nvSpPr>
            <p:spPr>
              <a:xfrm>
                <a:off x="357120" y="4643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원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그룹 11"/>
          <p:cNvGrpSpPr/>
          <p:nvPr/>
        </p:nvGrpSpPr>
        <p:grpSpPr>
          <a:xfrm>
            <a:off x="0" y="0"/>
            <a:ext cx="9144000" cy="6275520"/>
            <a:chOff x="0" y="0"/>
            <a:chExt cx="9144000" cy="6275520"/>
          </a:xfrm>
        </p:grpSpPr>
        <p:pic>
          <p:nvPicPr>
            <p:cNvPr id="60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6" name="그룹 17"/>
            <p:cNvGrpSpPr/>
            <p:nvPr/>
          </p:nvGrpSpPr>
          <p:grpSpPr>
            <a:xfrm>
              <a:off x="323640" y="2565000"/>
              <a:ext cx="8606160" cy="3710520"/>
              <a:chOff x="323640" y="2565000"/>
              <a:chExt cx="8606160" cy="3710520"/>
            </a:xfrm>
          </p:grpSpPr>
          <p:sp>
            <p:nvSpPr>
              <p:cNvPr id="607" name="AutoShape 2"/>
              <p:cNvSpPr/>
              <p:nvPr/>
            </p:nvSpPr>
            <p:spPr>
              <a:xfrm>
                <a:off x="323640" y="2996640"/>
                <a:ext cx="8606160" cy="327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8" name="Text Box 25"/>
              <p:cNvSpPr/>
              <p:nvPr/>
            </p:nvSpPr>
            <p:spPr>
              <a:xfrm>
                <a:off x="394920" y="3126960"/>
                <a:ext cx="8534880" cy="30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관련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친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진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상 연령차별 금지 및 고령자고용촉진에 관한 법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기초생활보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건강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급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생교육법 등 다양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법인 노인복지법이 기본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정 노인복지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1981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당위성을 제시하였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를 권리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선적 시혜로 간주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보다 경제성장을 우선시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개입을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과 가족의 책임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법의 개정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 제정 후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4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차례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중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의 전문 개정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례의 일부 개정으로 노인복지 급여와 서비스 확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제정으로 노인복지 획기적 변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AutoShape 4"/>
              <p:cNvSpPr/>
              <p:nvPr/>
            </p:nvSpPr>
            <p:spPr>
              <a:xfrm>
                <a:off x="394920" y="256500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0" name="그룹 22"/>
            <p:cNvGrpSpPr/>
            <p:nvPr/>
          </p:nvGrpSpPr>
          <p:grpSpPr>
            <a:xfrm>
              <a:off x="285480" y="947520"/>
              <a:ext cx="8643960" cy="1552680"/>
              <a:chOff x="285480" y="947520"/>
              <a:chExt cx="8643960" cy="1552680"/>
            </a:xfrm>
          </p:grpSpPr>
          <p:sp>
            <p:nvSpPr>
              <p:cNvPr id="611" name="AutoShape 2"/>
              <p:cNvSpPr/>
              <p:nvPr/>
            </p:nvSpPr>
            <p:spPr>
              <a:xfrm>
                <a:off x="285480" y="1428480"/>
                <a:ext cx="8643960" cy="107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356760" y="1428480"/>
                <a:ext cx="8572680" cy="10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목적과 가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원칙 ＋ 노인복지의 대상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에서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주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과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행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 등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도체계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＋ 노인복지의 방법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에서 추후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3" name="직사각형 18"/>
              <p:cNvSpPr/>
              <p:nvPr/>
            </p:nvSpPr>
            <p:spPr>
              <a:xfrm>
                <a:off x="285480" y="947520"/>
                <a:ext cx="621504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의 구성체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그룹 11"/>
          <p:cNvGrpSpPr/>
          <p:nvPr/>
        </p:nvGrpSpPr>
        <p:grpSpPr>
          <a:xfrm>
            <a:off x="0" y="0"/>
            <a:ext cx="9144000" cy="6377040"/>
            <a:chOff x="0" y="0"/>
            <a:chExt cx="9144000" cy="6377040"/>
          </a:xfrm>
        </p:grpSpPr>
        <p:pic>
          <p:nvPicPr>
            <p:cNvPr id="61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7" name="그룹 17"/>
            <p:cNvGrpSpPr/>
            <p:nvPr/>
          </p:nvGrpSpPr>
          <p:grpSpPr>
            <a:xfrm>
              <a:off x="179280" y="980640"/>
              <a:ext cx="8750520" cy="5396400"/>
              <a:chOff x="179280" y="980640"/>
              <a:chExt cx="8750520" cy="5396400"/>
            </a:xfrm>
          </p:grpSpPr>
          <p:sp>
            <p:nvSpPr>
              <p:cNvPr id="618" name="AutoShape 2"/>
              <p:cNvSpPr/>
              <p:nvPr/>
            </p:nvSpPr>
            <p:spPr>
              <a:xfrm>
                <a:off x="179280" y="1416960"/>
                <a:ext cx="8750520" cy="4960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9" name="Text Box 25"/>
              <p:cNvSpPr/>
              <p:nvPr/>
            </p:nvSpPr>
            <p:spPr>
              <a:xfrm>
                <a:off x="394920" y="1556640"/>
                <a:ext cx="8534880" cy="47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노인복지법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의 촉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권관점의 정책과 실천 등의 최근 노인복지동향의 미반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수급자 중심주의가 아닌 공급자 중심주의에 근거한 법체계로서 노인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영역별 욕구와 문제해결에 필요한 조치를 충분히 포괄하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등의 타법 제정으로 관련 조문이 삭제되어 노인복지제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법으로서의 성격을 갖추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행 노인복지사업을 충분히 담지 못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노인문제에 대한 선제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응방안 마련의 근거 조항 미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의 구성체계 혼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복지법 개정의 방향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권관점 정책과 실천 등의 최신 노인복지 동향 반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생활영역별 편제 또는 수급자 중심주의 강화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역사회 돌봄을 중시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정책 기본 방향 제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 급여와 서비스의 법적 기반 확보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혼란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령체계의 정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제도의 기본법으로서의 성격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0" name="AutoShape 4"/>
              <p:cNvSpPr/>
              <p:nvPr/>
            </p:nvSpPr>
            <p:spPr>
              <a:xfrm>
                <a:off x="251280" y="9806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그룹 6"/>
          <p:cNvGrpSpPr/>
          <p:nvPr/>
        </p:nvGrpSpPr>
        <p:grpSpPr>
          <a:xfrm>
            <a:off x="285840" y="214200"/>
            <a:ext cx="8858160" cy="6195960"/>
            <a:chOff x="285840" y="214200"/>
            <a:chExt cx="8858160" cy="6195960"/>
          </a:xfrm>
        </p:grpSpPr>
        <p:pic>
          <p:nvPicPr>
            <p:cNvPr id="622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7020360" y="5367600"/>
              <a:ext cx="2123640" cy="104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AutoShape 2"/>
            <p:cNvSpPr/>
            <p:nvPr/>
          </p:nvSpPr>
          <p:spPr>
            <a:xfrm>
              <a:off x="285840" y="642600"/>
              <a:ext cx="8715600" cy="545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4" name="그룹 10"/>
            <p:cNvGrpSpPr/>
            <p:nvPr/>
          </p:nvGrpSpPr>
          <p:grpSpPr>
            <a:xfrm>
              <a:off x="285840" y="214200"/>
              <a:ext cx="8501040" cy="5676840"/>
              <a:chOff x="285840" y="214200"/>
              <a:chExt cx="8501040" cy="5676840"/>
            </a:xfrm>
          </p:grpSpPr>
          <p:sp>
            <p:nvSpPr>
              <p:cNvPr id="625" name="AutoShape 4"/>
              <p:cNvSpPr/>
              <p:nvPr/>
            </p:nvSpPr>
            <p:spPr>
              <a:xfrm>
                <a:off x="357120" y="21420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 전달체계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285840" y="999720"/>
                <a:ext cx="8501040" cy="48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전달체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정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건복지부 인구정책실→ 노인정책관 → 노인정책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지원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제도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운영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치매정책과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,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광역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 담당국과 담당과의 명칭 상이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3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국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담당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전담공무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 노인복지전달체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시설과 기관에 따라 상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전달체계의 문제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복지전달체계가 없어 일관성 있는 노인복지행정 추진에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부처의 관련 업무 분산으로 인한 통합적 서비스 제공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관련 보건과 복지 전달체계의 분리로 인한 통합서비스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일선 전담공무원의 업무과다로 인한 대인서비스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그룹 5"/>
          <p:cNvGrpSpPr/>
          <p:nvPr/>
        </p:nvGrpSpPr>
        <p:grpSpPr>
          <a:xfrm>
            <a:off x="285840" y="285840"/>
            <a:ext cx="8715240" cy="6072120"/>
            <a:chOff x="285840" y="285840"/>
            <a:chExt cx="8715240" cy="6072120"/>
          </a:xfrm>
        </p:grpSpPr>
        <p:sp>
          <p:nvSpPr>
            <p:cNvPr id="628" name="AutoShape 2"/>
            <p:cNvSpPr/>
            <p:nvPr/>
          </p:nvSpPr>
          <p:spPr>
            <a:xfrm>
              <a:off x="285840" y="642960"/>
              <a:ext cx="8715240" cy="5715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9" name="그룹 10"/>
            <p:cNvGrpSpPr/>
            <p:nvPr/>
          </p:nvGrpSpPr>
          <p:grpSpPr>
            <a:xfrm>
              <a:off x="357120" y="285840"/>
              <a:ext cx="8501040" cy="5937480"/>
              <a:chOff x="357120" y="285840"/>
              <a:chExt cx="8501040" cy="5937480"/>
            </a:xfrm>
          </p:grpSpPr>
          <p:sp>
            <p:nvSpPr>
              <p:cNvPr id="630" name="AutoShape 4"/>
              <p:cNvSpPr/>
              <p:nvPr/>
            </p:nvSpPr>
            <p:spPr>
              <a:xfrm>
                <a:off x="357120" y="28584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복지재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1" name="Text Box 6"/>
              <p:cNvSpPr/>
              <p:nvPr/>
            </p:nvSpPr>
            <p:spPr>
              <a:xfrm>
                <a:off x="357120" y="1013760"/>
                <a:ext cx="8501040" cy="520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2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DP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 사회복지지출 수준이 매우 낮은 상황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은 큰 폭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증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 예산액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,99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,21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앙정부 예산 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부예산 중 비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.01% → 201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.1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 가 부담하는 예산을 합하면 노인복지예산 규모가 더 확대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예산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이 예산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2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차지하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6.4%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돌봄서비스 예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0.8%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은 비중 낮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지방분권화 정책에 따라 노인복지사업의 일부가 지방정부로 이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지방분권화 정책은 지역복지의 강화를 도모할 수 있게 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 증액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별 노인복지의 편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의 지역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획 수립과 추진능력의 한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에 대한 주민 감시 및 평가기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문제 파생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그룹 11"/>
          <p:cNvGrpSpPr/>
          <p:nvPr/>
        </p:nvGrpSpPr>
        <p:grpSpPr>
          <a:xfrm>
            <a:off x="0" y="0"/>
            <a:ext cx="9358200" cy="6412320"/>
            <a:chOff x="0" y="0"/>
            <a:chExt cx="9358200" cy="6412320"/>
          </a:xfrm>
        </p:grpSpPr>
        <p:sp>
          <p:nvSpPr>
            <p:cNvPr id="633" name="AutoShape 2"/>
            <p:cNvSpPr/>
            <p:nvPr/>
          </p:nvSpPr>
          <p:spPr>
            <a:xfrm>
              <a:off x="285480" y="1143000"/>
              <a:ext cx="8715600" cy="2571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3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의 발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6" name="그룹 10"/>
            <p:cNvGrpSpPr/>
            <p:nvPr/>
          </p:nvGrpSpPr>
          <p:grpSpPr>
            <a:xfrm>
              <a:off x="285480" y="785520"/>
              <a:ext cx="8572680" cy="2908440"/>
              <a:chOff x="285480" y="785520"/>
              <a:chExt cx="8572680" cy="2908440"/>
            </a:xfrm>
          </p:grpSpPr>
          <p:sp>
            <p:nvSpPr>
              <p:cNvPr id="637" name="AutoShape 4"/>
              <p:cNvSpPr/>
              <p:nvPr/>
            </p:nvSpPr>
            <p:spPr>
              <a:xfrm>
                <a:off x="356760" y="78552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삼국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조선시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Text Box 6"/>
              <p:cNvSpPr/>
              <p:nvPr/>
            </p:nvSpPr>
            <p:spPr>
              <a:xfrm>
                <a:off x="285480" y="1336320"/>
                <a:ext cx="8572680" cy="235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왕의 仁政 에 의한 자선적이고 선별적인 권위적 주제와 구휼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삼국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鰥寡孤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과고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을 대상으로 양로연이나 효자 표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려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교의 자비사상에 의한 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待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2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home helper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서대비원에서의 의료구제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선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교의 경로효친에 근거 부양자 없는 노인과 양반 관리자에 시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耆老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39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養民院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03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의무탁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養老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25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 법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致仕制度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51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퇴직제도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9" name="AutoShape 2"/>
            <p:cNvSpPr/>
            <p:nvPr/>
          </p:nvSpPr>
          <p:spPr>
            <a:xfrm>
              <a:off x="285480" y="4262400"/>
              <a:ext cx="8715600" cy="2095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40" name="그룹 10"/>
            <p:cNvGrpSpPr/>
            <p:nvPr/>
          </p:nvGrpSpPr>
          <p:grpSpPr>
            <a:xfrm>
              <a:off x="285480" y="3857400"/>
              <a:ext cx="8572680" cy="2554920"/>
              <a:chOff x="285480" y="3857400"/>
              <a:chExt cx="8572680" cy="2554920"/>
            </a:xfrm>
          </p:grpSpPr>
          <p:sp>
            <p:nvSpPr>
              <p:cNvPr id="641" name="AutoShape 4"/>
              <p:cNvSpPr/>
              <p:nvPr/>
            </p:nvSpPr>
            <p:spPr>
              <a:xfrm>
                <a:off x="356760" y="385740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일제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195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Text Box 6"/>
              <p:cNvSpPr/>
              <p:nvPr/>
            </p:nvSpPr>
            <p:spPr>
              <a:xfrm>
                <a:off x="285480" y="4451040"/>
                <a:ext cx="8572680" cy="196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제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민통치 반발 무마를 위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민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독부내에 사회과 설치하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업무 관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2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최초 양로시설 설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4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조선구호령 공포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상 극빈 및 무의탁 노인 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해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-1950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쟁고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난민 등에 대한 응급구호사업에 주력하여 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상대적 위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194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헌법에 노인의 생존권 보장 명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5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노인복지시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16:34:53Z</dcterms:modified>
  <cp:revision>306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